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99BAA-46A9-4A7F-B067-EB5E730FE4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1B45F-C25A-480E-B0EB-22091EDD0E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 minutes, 28 seconds Video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whitehouse.gov/photos-and-video/video/2010/09/16/a-stem-education-tools-change-world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ink, Pair, Share –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op and jot the ideas that stood out to you.  Share these with a partner.  What did you hear that we mus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A6FF9-F9C8-4B1F-BC28-16861B03A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219200"/>
            <a:ext cx="822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5FAD0-56B2-4FB0-8188-16768D599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21920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21920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2D709-8AC1-485D-9D4F-631514718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213372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213372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21920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421920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421920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91F52-7307-4C9C-A81A-F6BDADBA5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A9139-9B01-448F-AB55-F51F89A30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53A26-C306-4D55-81FE-E1A3B0225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E2663-D4ED-45E2-8D37-EDFFDFC46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A4B63-5EB7-458C-8C72-B73D9D674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B7539-1671-49B9-9D1C-8B23F8FDB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21920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49D38-5892-493C-AD45-EF5E86066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21920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7B289-5E3E-4CD6-9E70-930D32375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19200"/>
            <a:ext cx="822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2A9C9-BEEC-4781-AE9C-E0EAFBF0D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3" marL="1536120" indent="-21924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4" marL="1974960" indent="-219240">
              <a:spcBef>
                <a:spcPts val="7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86054-DCF2-4025-86EF-CED331D394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8" descr=""/>
          <p:cNvPicPr/>
          <p:nvPr/>
        </p:nvPicPr>
        <p:blipFill>
          <a:blip r:embed="rId2"/>
          <a:srcRect l="20834" t="30000" r="22919" b="46667"/>
          <a:stretch/>
        </p:blipFill>
        <p:spPr>
          <a:xfrm>
            <a:off x="0" y="-152280"/>
            <a:ext cx="9144000" cy="23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whitehouse.gov/photos-and-video/video/2010/09/16/a-stem-education-tools-change-world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stem.definedlearning.com/connect.cfm?asset_guid=6d37717d-0305-4740-ab70-a5fa946e793c&amp;blnSearch=1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pdesas.org/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definedstem.wikispaces.com/" TargetMode="Externa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PAIU</a:t>
            </a:r>
            <a:r>
              <a:rPr b="0" i="1" lang="en-US" sz="4400" spc="-1" strike="noStrike">
                <a:solidFill>
                  <a:srgbClr val="ff0000"/>
                </a:solidFill>
                <a:latin typeface="Times New Roman"/>
              </a:rPr>
              <a:t>net</a:t>
            </a: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Defined STEM </a:t>
            </a:r>
            <a:br>
              <a:rPr sz="4400"/>
            </a:b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Trainer of Train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David L. Reese, Ed. D.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Sunny Minelli Weiland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Navigation of Defined STEM, Exploration and Connecting the Dots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We will now have experience of navigating Defined STEM resources.  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Please see facilitation script for guidance.  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You will be given time to explore site and areas of interest.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Please select one performance task and video. 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Please download “connecting the dots” worksheet from “content manager” in learning community.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Analyze the resources you located in Defined STEM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Document your findings related to the elements contained in “Connect the Dot” worksheet!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Job Alike Evaluation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What technological considerations might need to be addressed to effectively use the Defined STEM resources?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How can the Defined STEM resources be used in a traditional face to face classroom?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How can Defined STEM resources be used beyond traditional classroom? 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Questions, Considerations and Next Steps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hank You </a:t>
            </a:r>
            <a:r>
              <a:rPr b="0" lang="en-US" sz="3200" spc="-1" strike="noStrike">
                <a:solidFill>
                  <a:srgbClr val="333399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We would like to get to know you!  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What is your name?  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What do you do?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What do you know about Defined STEM?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What are your hopes for today?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Question for Viewing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:  What is the vision for STEM and 21st century learning?  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Video:  </a:t>
            </a:r>
            <a:r>
              <a:rPr b="1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STEM Education-Tools to Change the World 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Evaluation of Defined STEM Resources as these connect to the 21st Century Workplace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Focus for viewing 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While viewing video, participants should jot down: 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ntent connections in relation to Academic Standards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kill applications – Performance standards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reativity &amp; Innovation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Work Environment &amp; Collaboration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Video: 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Using Virtual Technology to Assist in Rocket Design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lease take two minutes to independently document observations.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n groups, identify top 5 connections related to the area of focus.  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Assign a recorder to document top 5 list using non-linguistic representations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Assign a reporter to share the findings of the small group with the large group. 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Reflection and Exit Ticket for Break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lease go to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pdesas.org/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lease login to SAS.  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f participants you not have login information, please create account using the following steps: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Click “login” in upper right hand corner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Click “join now”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Complete registration information.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Enter information as prompted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Once you have login, click </a:t>
            </a: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“teacher tools”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in upper right corner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lease select </a:t>
            </a: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“learning communities”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earch for </a:t>
            </a: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“PAIUnet:  Defined STEM Learning Community”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elect </a:t>
            </a: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“join now”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lease select forum titled: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STEM Education and the 21st Century Workplace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Within STEM Education and the 21st Century Workplace forum, please respond to the following prompt:  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Based upon viewing and evaluating one Defined STEM video, Using Virtual Technology to Assist in Rocket Design, share: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one finding that aligns with your vision for STEM education; and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one finding that aligns with the 21st century workplace. 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Becoming Expert and Application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Each group will research an assigned area of focus and will create a “Cheat Sheet” identifying critical components of one of the following:  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Webb’s Depth of Knowledge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ifferentiated Instruction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Multiple Intelligences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21:  Learning and Innovation Skills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To assist you in becoming experts, please visit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definedstem.wikispaces.com/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You will have 15 minutes to “become experts.”  Please agree on essential elements of concept in preparation for a “jigsaw!” 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Each member of expert team should document the “essential elements” determined by the group to take to jigsaw groups. 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Jigsaw!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There is now one expert member in each new group </a:t>
            </a:r>
            <a:r>
              <a:rPr b="0" lang="en-US" sz="20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 1 minute sharing 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Performance task in Defined STEM &amp; Video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Area of Focus:  Technology/Art/Science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Floral Designer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While viewing resources, please jot down connections to your area of expertise: 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Webb’s Depth of Knowledge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ifferentiated Instruction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Multiple Intelligences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21:  Learning and Innovation Skills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Please share in jigsaw groups key ideas and connections in the Defined STEM performance task and video.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Exit Ticket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n PAIUnet:  Defined Stem Learning Community, please select one of the following forums and respond!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21st Century Learning and Innovation Skills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How do Defined STEM resources provide opportunities for students to apply 21st century learning and innovation skills?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Multiple Intelligences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How do resources in Defined STEM empower learners through the multiple intelligences?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Webb's Depth of Knowledge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How do resources in Defined STEM connect with higher levels of Webb's Depth of Knowledge?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Differentiated Instruction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How do Defined STEM resources support differentiation of content, assessment and instruction? 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0T01:32:16Z</dcterms:created>
  <dc:creator>sweiland</dc:creator>
  <dc:description/>
  <dc:language>en-US</dc:language>
  <cp:lastModifiedBy>GuestIU20</cp:lastModifiedBy>
  <dcterms:modified xsi:type="dcterms:W3CDTF">2011-05-10T18:18:49Z</dcterms:modified>
  <cp:revision>9</cp:revision>
  <dc:subject/>
  <dc:title>PAIUnet Defined STEM  Trainer of Trainers</dc:title>
</cp:coreProperties>
</file>